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C6E40-143F-43D3-AA75-0BD7338A99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2A349-004A-4E9F-AA1B-C84E8822F0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70735-FEF0-45E1-BF05-15FCEF3F30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D2E1C-A687-4A7E-904F-08A7940371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DE49D-CCBA-4F7F-A39E-469A640FA9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1B4CE-74C1-408C-9B7A-5A8237AF09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BAB55-B696-461B-AD3B-DB4E0CFEE8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AC92D-8058-4C16-A7DF-0E39F5889B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E80FE-9546-45CC-AAB3-7F6D7D9402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A9E62-4117-432B-B889-2DAD6B803D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715F9-C8CC-49DD-AFD3-4C1E5E7B99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60059-EA43-496C-8BAC-095481598D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B9D61-71E6-4329-9E4D-59298617B8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9E296-4D95-46AB-AB09-FDF51A7D72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39400-FCD3-451F-AD01-63147036DB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F0593-20C6-47B9-8489-242C90827B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11DF1-5767-4161-9F91-96538526D3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E4A0F-0AB1-46C9-B723-94684900F8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570A5-6B44-4DDD-A78F-29E1232602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4F40D-FEB8-4DED-8130-B71AFB2D6E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6E62E-796F-4A80-89F9-75B1301226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01B64-768C-4F92-B3E0-787C69825E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E3DB3-D090-416D-8CF6-69AE500E98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A537E-29F3-49C0-92EA-35B3F85147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71050-0F98-4C5F-A0EE-BC6A5C04C9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7692B-B046-40DE-9175-108A8DC34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A635A-A9CC-4AF4-9D4D-E8BCF99DB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771E0-D2CF-446B-8F6B-B44ADC982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3E106-B90A-4A58-837E-B2C88D197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9DA0D-9DFE-47EC-8C29-66015C8EA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6559E-BF00-4B66-B432-4BCEDD90B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97484-E91C-4387-8181-6C27E91AE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C5FFD-4342-477B-B5AB-0E0BF772D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9DBC0-1466-4F93-8E26-2C5D013C9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A4C2B-053F-475D-A53F-4D91553A7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20FAD-1E8F-427E-9036-E8C8728E4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F21FC-F94A-45DB-8A02-3DA33AD5B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0A532-E4ED-445D-B2D1-050C61131F9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37313-F42A-496C-80D6-AF04441FBD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mcomm and Digital Mod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uck Watkins, W6TU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Michael Radovancevich, KI6JP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W Soun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40384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0 WPM                                   100 WP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Content Placeholder 3" descr="cw20wpm.png"/>
          <p:cNvPicPr/>
          <p:nvPr/>
        </p:nvPicPr>
        <p:blipFill>
          <a:blip r:embed="rId1"/>
          <a:stretch/>
        </p:blipFill>
        <p:spPr>
          <a:xfrm>
            <a:off x="1066680" y="1828800"/>
            <a:ext cx="1752840" cy="1349280"/>
          </a:xfrm>
          <a:prstGeom prst="rect">
            <a:avLst/>
          </a:prstGeom>
          <a:ln w="0">
            <a:noFill/>
          </a:ln>
        </p:spPr>
      </p:pic>
      <p:pic>
        <p:nvPicPr>
          <p:cNvPr id="85" name="CW20wpm.wav" descr=""/>
          <p:cNvPicPr/>
          <p:nvPr/>
        </p:nvPicPr>
        <p:blipFill>
          <a:blip r:embed="rId2"/>
          <a:stretch/>
        </p:blipFill>
        <p:spPr>
          <a:xfrm>
            <a:off x="1676520" y="36576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6" descr="cw100wpm.png"/>
          <p:cNvPicPr/>
          <p:nvPr/>
        </p:nvPicPr>
        <p:blipFill>
          <a:blip r:embed="rId3"/>
          <a:stretch/>
        </p:blipFill>
        <p:spPr>
          <a:xfrm>
            <a:off x="5562720" y="1752480"/>
            <a:ext cx="2133360" cy="1382760"/>
          </a:xfrm>
          <a:prstGeom prst="rect">
            <a:avLst/>
          </a:prstGeom>
          <a:ln w="0">
            <a:noFill/>
          </a:ln>
        </p:spPr>
      </p:pic>
      <p:pic>
        <p:nvPicPr>
          <p:cNvPr id="87" name="CW100wpm.wav" descr=""/>
          <p:cNvPicPr/>
          <p:nvPr/>
        </p:nvPicPr>
        <p:blipFill>
          <a:blip r:embed="rId4"/>
          <a:stretch/>
        </p:blipFill>
        <p:spPr>
          <a:xfrm>
            <a:off x="6629400" y="35812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88" name="Date Placeholder 8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D3BE9-0123-4709-BB7D-54DE03E44D6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11263-E774-4AB0-A697-7AC0FCBF61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0"/>
          <p:cNvSpPr/>
          <p:nvPr/>
        </p:nvSpPr>
        <p:spPr>
          <a:xfrm>
            <a:off x="1219320" y="5638680"/>
            <a:ext cx="563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www.w1hkj.com/FldigiHelp/Modes/index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5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5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6336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5000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FSK – Multi-frequency Shift Keyin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s different frequencies to denote symbol chang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chniques using concurrent  and/or sequential tones that implement this mod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ward Error correction – very robus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quires accurate tuning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ong path DX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6B428-DA3A-47EC-9C12-739C46AEDEF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C6492-CA36-4121-AA0C-41E403CA1D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FSK - Soun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Content Placeholder 3" descr="MFSK16.png"/>
          <p:cNvPicPr/>
          <p:nvPr/>
        </p:nvPicPr>
        <p:blipFill>
          <a:blip r:embed="rId1"/>
          <a:stretch/>
        </p:blipFill>
        <p:spPr>
          <a:xfrm>
            <a:off x="762120" y="2209680"/>
            <a:ext cx="1852560" cy="13604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" descr="MFSK32.png"/>
          <p:cNvPicPr/>
          <p:nvPr/>
        </p:nvPicPr>
        <p:blipFill>
          <a:blip r:embed="rId2"/>
          <a:stretch/>
        </p:blipFill>
        <p:spPr>
          <a:xfrm>
            <a:off x="5791320" y="2209680"/>
            <a:ext cx="1857240" cy="1447920"/>
          </a:xfrm>
          <a:prstGeom prst="rect">
            <a:avLst/>
          </a:prstGeom>
          <a:ln w="0">
            <a:noFill/>
          </a:ln>
        </p:spPr>
      </p:pic>
      <p:pic>
        <p:nvPicPr>
          <p:cNvPr id="98" name="MFSK32.wav" descr=""/>
          <p:cNvPicPr/>
          <p:nvPr/>
        </p:nvPicPr>
        <p:blipFill>
          <a:blip r:embed="rId3"/>
          <a:stretch/>
        </p:blipFill>
        <p:spPr>
          <a:xfrm>
            <a:off x="6553080" y="42670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99" name="MFSK16.wav" descr=""/>
          <p:cNvPicPr/>
          <p:nvPr/>
        </p:nvPicPr>
        <p:blipFill>
          <a:blip r:embed="rId4"/>
          <a:stretch/>
        </p:blipFill>
        <p:spPr>
          <a:xfrm>
            <a:off x="1447920" y="4267080"/>
            <a:ext cx="609480" cy="609840"/>
          </a:xfrm>
          <a:prstGeom prst="rect">
            <a:avLst/>
          </a:prstGeom>
          <a:ln w="0">
            <a:noFill/>
          </a:ln>
        </p:spPr>
      </p:pic>
      <p:sp>
        <p:nvSpPr>
          <p:cNvPr id="100" name="Content Placeholder 2"/>
          <p:cNvSpPr/>
          <p:nvPr/>
        </p:nvSpPr>
        <p:spPr>
          <a:xfrm>
            <a:off x="380880" y="3581280"/>
            <a:ext cx="8229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FSK 16                                        MFSK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Date Placeholder 7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77BE6-8394-4C98-8CA2-DC92471DAC4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lide Number Placeholder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C59BE-67B4-4E68-899D-B43B36FAC2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restart="whenNotActive" nodeType="interactiveSeq" fill="hold">
                <p:stCondLst>
                  <p:cond evt="onClick">
                    <p:tgtEl>
                      <p:spTgt spid="98"/>
                    </p:tgtEl>
                  </p:cond>
                </p:stCondLst>
                <p:childTnLst>
                  <p:par>
                    <p:cTn id="14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21952" fill="hold"/>
                                        <p:tgtEl>
                                          <p:spTgt spid="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19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" dur="5014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PSK – Binary Phase Shift Key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monly called PSK [Sometimes 2-PSK]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latively narrow bandwidth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ood sensitivity to weak signal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low power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. Can be overdriven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ward Error Correction is  not us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re is a variant called Quarature Phase Shift Keying (QPSK) with error correc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5B335-74C6-40FC-99C5-A05867E4766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8566D-5D2B-42D7-886C-BBD5CB2A02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BPSK – Sound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80880" y="34286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PSK 125                               BPSK 25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2" descr="E:\ham\DigitalModes\fldigi-win\talk\examples\BPSK\BPSK125.png"/>
          <p:cNvPicPr/>
          <p:nvPr/>
        </p:nvPicPr>
        <p:blipFill>
          <a:blip r:embed="rId1"/>
          <a:stretch/>
        </p:blipFill>
        <p:spPr>
          <a:xfrm>
            <a:off x="1495440" y="1789200"/>
            <a:ext cx="1552680" cy="13716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3" descr="E:\ham\DigitalModes\fldigi-win\talk\examples\BPSK\BPSK250.png"/>
          <p:cNvPicPr/>
          <p:nvPr/>
        </p:nvPicPr>
        <p:blipFill>
          <a:blip r:embed="rId2"/>
          <a:stretch/>
        </p:blipFill>
        <p:spPr>
          <a:xfrm>
            <a:off x="5294160" y="1828800"/>
            <a:ext cx="2659320" cy="1360440"/>
          </a:xfrm>
          <a:prstGeom prst="rect">
            <a:avLst/>
          </a:prstGeom>
          <a:ln w="0">
            <a:noFill/>
          </a:ln>
        </p:spPr>
      </p:pic>
      <p:pic>
        <p:nvPicPr>
          <p:cNvPr id="111" name="BPSK125.wav" descr=""/>
          <p:cNvPicPr/>
          <p:nvPr/>
        </p:nvPicPr>
        <p:blipFill>
          <a:blip r:embed="rId3"/>
          <a:stretch/>
        </p:blipFill>
        <p:spPr>
          <a:xfrm>
            <a:off x="1905120" y="42670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12" name="BPSK250.wav" descr=""/>
          <p:cNvPicPr/>
          <p:nvPr/>
        </p:nvPicPr>
        <p:blipFill>
          <a:blip r:embed="rId4"/>
          <a:stretch/>
        </p:blipFill>
        <p:spPr>
          <a:xfrm>
            <a:off x="6477120" y="4114800"/>
            <a:ext cx="609480" cy="609480"/>
          </a:xfrm>
          <a:prstGeom prst="rect">
            <a:avLst/>
          </a:prstGeom>
          <a:ln w="0">
            <a:noFill/>
          </a:ln>
        </p:spPr>
      </p:pic>
      <p:sp>
        <p:nvSpPr>
          <p:cNvPr id="113" name="Date Placeholder 8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E64DF-7ABA-4745-B396-6CA3D935280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32CA3-7102-4EB3-91FF-2E8462BF47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" dur="5030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30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" dur="4984" fill="hold"/>
                                        <p:tgtEl>
                                          <p:spTgt spid="1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inoE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ngle carrier with 18 tone frequency with constant phase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ery robust, no FEC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ood weak signal LF and high speed HF u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inoEX 11 designed for NVIS (80m at nigh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lerant of tuning issues. [up to 200Hz. offset]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C68F4-E56B-4D76-95C0-6A819AA21BB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40E2A-09CB-441F-BEDE-2244F0651D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inoEX - Soun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3581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inoEX 11                      DominoEX 2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Picture 2" descr="E:\ham\DigitalModes\fldigi-win\talk\examples\Domino\DomEX11.png"/>
          <p:cNvPicPr/>
          <p:nvPr/>
        </p:nvPicPr>
        <p:blipFill>
          <a:blip r:embed="rId1"/>
          <a:stretch/>
        </p:blipFill>
        <p:spPr>
          <a:xfrm>
            <a:off x="1036800" y="2101680"/>
            <a:ext cx="1852560" cy="13716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3" descr="E:\ham\DigitalModes\fldigi-win\talk\examples\Domino\DomEX22.png"/>
          <p:cNvPicPr/>
          <p:nvPr/>
        </p:nvPicPr>
        <p:blipFill>
          <a:blip r:embed="rId2"/>
          <a:stretch/>
        </p:blipFill>
        <p:spPr>
          <a:xfrm>
            <a:off x="4902120" y="2155680"/>
            <a:ext cx="2730600" cy="1349640"/>
          </a:xfrm>
          <a:prstGeom prst="rect">
            <a:avLst/>
          </a:prstGeom>
          <a:ln w="0">
            <a:noFill/>
          </a:ln>
        </p:spPr>
      </p:pic>
      <p:pic>
        <p:nvPicPr>
          <p:cNvPr id="123" name="DomEX11.wav" descr=""/>
          <p:cNvPicPr/>
          <p:nvPr/>
        </p:nvPicPr>
        <p:blipFill>
          <a:blip r:embed="rId3"/>
          <a:stretch/>
        </p:blipFill>
        <p:spPr>
          <a:xfrm>
            <a:off x="1828800" y="449568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124" name="DomEX22.wav" descr=""/>
          <p:cNvPicPr/>
          <p:nvPr/>
        </p:nvPicPr>
        <p:blipFill>
          <a:blip r:embed="rId4"/>
          <a:stretch/>
        </p:blipFill>
        <p:spPr>
          <a:xfrm>
            <a:off x="5867280" y="434340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125" name="Date Placeholder 7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D0FDF-393A-47AB-8E7F-257F9362AFD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Slide Number Placeholder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BF1D3-4304-4891-8BA4-42240BED1F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restart="whenNotActive" nodeType="interactiveSeq" fill="hold">
                <p:stCondLst>
                  <p:cond evt="onClick">
                    <p:tgtEl>
                      <p:spTgt spid="123"/>
                    </p:tgtEl>
                  </p:cond>
                </p:stCondLst>
                <p:childTnLst>
                  <p:par>
                    <p:cTn id="36" fill="hold">
                      <p:stCondLst>
                        <p:cond evt="onClick">
                          <p:tgtEl>
                            <p:spTgt spid="123"/>
                          </p:tgtEl>
                        </p:cond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" dur="5008" fill="hold"/>
                                        <p:tgtEl>
                                          <p:spTgt spid="1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" restart="whenNotActive" nodeType="interactiveSeq" fill="hold">
                <p:stCondLst>
                  <p:cond evt="onClick">
                    <p:tgtEl>
                      <p:spTgt spid="124"/>
                    </p:tgtEl>
                  </p:cond>
                </p:stCondLst>
                <p:childTnLst>
                  <p:par>
                    <p:cTn id="41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" dur="5006" fill="hold"/>
                                        <p:tgtEl>
                                          <p:spTgt spid="1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T6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thogonal Frequency Division Multiplexed mod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ighly redundant Forward Error Corre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ndles interference and fading wel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n be mistuned and still work [100 Hz]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bit wider than other mod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ations must use same interleave setting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CFEC2-9451-4DE6-885A-DF023A464D1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DD6AA-F4E5-41BC-BF89-54CD80833F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T-63 Soun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3352320"/>
            <a:ext cx="3657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T-63/500      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53800" indent="-253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T63/2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318EA-BB55-42F3-86F0-8EDC099E637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A68F0-6334-44E7-BF96-C92F084483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5" descr="MT63-500.png"/>
          <p:cNvPicPr/>
          <p:nvPr/>
        </p:nvPicPr>
        <p:blipFill>
          <a:blip r:embed="rId1"/>
          <a:stretch/>
        </p:blipFill>
        <p:spPr>
          <a:xfrm>
            <a:off x="685800" y="1828800"/>
            <a:ext cx="2238480" cy="13604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6" descr="MT63-2000.png"/>
          <p:cNvPicPr/>
          <p:nvPr/>
        </p:nvPicPr>
        <p:blipFill>
          <a:blip r:embed="rId2"/>
          <a:stretch/>
        </p:blipFill>
        <p:spPr>
          <a:xfrm>
            <a:off x="609480" y="4724280"/>
            <a:ext cx="6750000" cy="1360440"/>
          </a:xfrm>
          <a:prstGeom prst="rect">
            <a:avLst/>
          </a:prstGeom>
          <a:ln w="0">
            <a:noFill/>
          </a:ln>
        </p:spPr>
      </p:pic>
      <p:pic>
        <p:nvPicPr>
          <p:cNvPr id="137" name="MT63-500.wav" descr=""/>
          <p:cNvPicPr/>
          <p:nvPr/>
        </p:nvPicPr>
        <p:blipFill>
          <a:blip r:embed="rId3"/>
          <a:stretch/>
        </p:blipFill>
        <p:spPr>
          <a:xfrm>
            <a:off x="4038480" y="220968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138" name="MT63-2000.wav" descr=""/>
          <p:cNvPicPr/>
          <p:nvPr/>
        </p:nvPicPr>
        <p:blipFill>
          <a:blip r:embed="rId4"/>
          <a:stretch/>
        </p:blipFill>
        <p:spPr>
          <a:xfrm>
            <a:off x="7848720" y="5029200"/>
            <a:ext cx="9144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restart="whenNotActive" nodeType="interactiveSeq" fill="hold">
                <p:stCondLst>
                  <p:cond evt="onClick">
                    <p:tgtEl>
                      <p:spTgt spid="137"/>
                    </p:tgtEl>
                  </p:cond>
                </p:stCondLst>
                <p:childTnLst>
                  <p:par>
                    <p:cTn id="47" fill="hold">
                      <p:stCondLst>
                        <p:cond evt="onClick">
                          <p:tgtEl>
                            <p:spTgt spid="137"/>
                          </p:tgtEl>
                        </p:cond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0" dur="5027" fill="hold"/>
                                        <p:tgtEl>
                                          <p:spTgt spid="1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" restart="whenNotActive" nodeType="interactiveSeq" fill="hold">
                <p:stCondLst>
                  <p:cond evt="onClick">
                    <p:tgtEl>
                      <p:spTgt spid="138"/>
                    </p:tgtEl>
                  </p:cond>
                </p:stCondLst>
                <p:childTnLst>
                  <p:par>
                    <p:cTn id="52" fill="hold">
                      <p:stCondLst>
                        <p:cond evt="onClick">
                          <p:tgtEl>
                            <p:spTgt spid="138"/>
                          </p:tgtEl>
                        </p:cond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5" dur="5016" fill="hold"/>
                                        <p:tgtEl>
                                          <p:spTgt spid="1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tai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457200" y="1371600"/>
          <a:ext cx="8229600" cy="407988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o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ymbol Rate (Bau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Words per Minu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Bandwidth (Hz.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FSK-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.6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FSK-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PSK-1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PSK-2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T63/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T63/2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ominoEx 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7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ominoEx 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.5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  <p:sp>
        <p:nvSpPr>
          <p:cNvPr id="141" name="Date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C2DE5-FC34-4F9F-8EEB-A314377289D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A1712-97F9-43D9-A7B4-A27E3F7275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6"/>
          <p:cNvSpPr/>
          <p:nvPr/>
        </p:nvSpPr>
        <p:spPr>
          <a:xfrm>
            <a:off x="609480" y="5919840"/>
            <a:ext cx="777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rom www.w1hkj.com/FldigiHelp/Modes/index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mcomm Messag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messages are short, voice transmiss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ut what if you had to send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list of medicines that are needed at a hospita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rections to a specific incident loc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list of evacue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5B300-A9F4-494F-9C4A-6E7D6F1A6A3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C7078-B5FF-4376-B900-B5667CCE2F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ldigi Featur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pports a ten families of digital mod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pports keyboard and file/mail exchang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pports broadcast messag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pports Automatic Repeat Request (ARQ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s optional Error Correction tools for fil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8C55A-EE70-4FE6-BCAC-1A68BD3D112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424C1-357C-48B3-A79B-95A5FDD5DE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ldigi and Flarq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larq implements Automatic Repeat Reques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ssage divided into small segments and sent from one station to anoth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ach segment contains a checksum, a count of the bits in the segment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y segment received without the proper number of bits is re-request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n be slow, but guarantees deliver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C886E-ED5C-4DC2-9A22-7A777919EA2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AB0F3-9B57-4E83-8061-311EF94D7E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ldigi and Wra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ap allows recipient to verify transmission was received correctl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mits transmission to single or multiple stations.  (Yes, broadcast transmissions!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ecksum is embedded in the entire message to insure accurate message is sent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T63, MFSK, THOR or DOMINOEX recommended as the transfer protoco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1D85A-A9BB-4931-AEAC-67BE8D6C0CA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DCC4F-AB9C-4422-81E7-FB83786718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larq vs Wra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larq is used for station to station communic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ssage delivered is guaranteed correct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is can be slow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ap is used for broadcasting a mess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has a checksum to use in confirming the message received has no error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You have to re-request if checksum is wro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9EE25-0746-43A1-B480-9C0DF3297B3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051AE-5798-4015-AA7C-D32A6A0D1C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ldigi and NBE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BEMS = Narrow Band Emergency Messaging Syste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 suite advertising “error free transmission” of text, images and email files. 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BEMS is a specially packaged Windows version of flarq, and fldigi.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signed for use with Outlook, Thunderbird, etc mail program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C40C4-090F-434A-8BFF-2113FE3C227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F7930-0EB3-4681-B820-F4217CAE3C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etting Start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a radio, a computer, a soundcard, and a way to cable them togeth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 use computer cabled to SignaLink USB soundcard box cabled to our radio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can use internal soundcard in computer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ftware is free from www.w1hkj.com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BF051-FD6B-4B05-9F64-D603600334C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00672-325D-4BA9-A4E4-CBF38CA6E4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ldigi Setu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view the Beginner’s Guide at Fldigi sit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view the material on Installation at www.pa-sitrep.com/NBEMS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you use Windows be sure to follow the Calibration procedure at the pa-sitrep sit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must configure: ‘Operator’ and ‘Sound Card’ [i.e. Audio] parameter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tting up ‘Rig Control’ is possibl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ACA31-DA33-4BF3-B98E-A36FE9405CA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BAEEF-8869-4243-9C57-78B0B0BE6F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igital Mode Usag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soundcard digital modes use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USB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never LSB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ceptions: Clover, RTTY, PACKET, AMTOR and PACTOR typically use LSB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n’t overdrive. Use less power, particularly locally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CB0EC-1AD6-4856-B98D-A580D49F93E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BBEFD-C90D-48E7-AF74-503C71641B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ere to Tu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t present no active nets on VHF or UHF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M FM 144.35, 145.03, 145.05 allocated for keyboard-to-keyboar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M SSB between 144.100 and 144.300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[144.300 is FM, below that is SSB]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e band local plan at: www.n0ary.org/ncpa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so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arrl.org/FandES/field/regulations/bandplan.htm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E3BD7-DF30-441F-B1B0-5EF9D284B00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9C193-46C9-4D47-9F71-A13F44C6F2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now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is a promising technology for Emcomm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is sometimes awkward to us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an active Emcomm user base. Atlantic Division using it. Particularly P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pular among non-Emcomm HF use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re is a learning curve.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e need to address thi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114BB-4580-4D56-919F-C7B18D0B47B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419D3-3EA3-49A8-A6EE-B9BFDFD0B8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essaging Needs V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 are capable of supplying voice communication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 can offer additional help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arrow Band Emergency Messaging System [NBEMS]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54297-9426-4C69-A35F-8A76461DD9D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5FCFE-97B3-44BF-8B6B-DB18A7A01E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gital mode technical descriptions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ww.arrl.org/FandES/field/regulations/techchar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ic set up see Beginner’s Guide at fldigi site www.w1hkj.co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rther set up see www.pa-sitrep.com/NBEMS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librate Windows Sound cards: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pa-sitrep.com/NBEMS/fldigi_calibration.ht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CC315-197B-4C4E-84F6-D8B5707C327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64703-41B3-4E6F-87F0-B596EACAB5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BE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sed of three related program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ldigi – Fast Light Digital Modem applic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larq – Fast Light Automatic Repeat Reque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ap – Embeds a checksum in a fi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from www.w1hkj.c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uns on Linux, Mac OSX, Window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C5690-15A6-4956-A944-6144B0F342A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0A199-8523-4784-91D2-F109C5C60B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a digital mo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the computer and a sound card to pass text or data over the ai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942C9-ABC6-4F7F-B40A-ED05E031C44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5075C-3500-4CC4-B427-96C469C1EC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do you need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transceiver, e.g. an HT, Dual Band mobile, or HF capable radi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uter with a sound car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bl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ree softwa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 like using an external sound car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2975A-5146-4E7A-B527-5CDE4091644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036E5-6BC8-4032-B160-DBB9DEC584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does it work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type text into a buffer in the compu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n you hit the transmit butt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uter encodes your text from 8-bit ASCII to another character code, e.g. varicod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encoded data is passed to a modula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n passed to your soundcard to produce audi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n to the radio and over the air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C4074-ADA3-4312-B6E1-80B6513BA4C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8D3C6-C280-4FD7-B3AF-E9D7B44288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y use these mode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duced bandwidth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roved signal-to-noise performanc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duced transmitter power requirement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me modes also offer built-in automatic error correc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me are particularly good in adverse atmospheric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ccurate transmission of long list of dat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1E17A-6C9B-42E5-9802-EF3DD96AB41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A9AA0-AE1A-44D5-8059-499BDD7897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me Exam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W  - Amplitude Shift Key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FSK – Multi-frequency Shift Key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PSK – Binary Phase Shift Key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inoEX  - Multi-frequency Shift Key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T63 -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thogonal Frequency Division Multiplex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[These examples that follow come from ‘Sights and Sounds of Digital Signals’ at: www.w1hkj.com/FldigiHelp/Modes/index.htm]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49572-359B-460B-A091-1D967F7E033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B3EB9-B743-49AC-A856-A11A7829C4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3T16:31:47Z</dcterms:created>
  <dc:creator>John Watkins</dc:creator>
  <dc:description/>
  <dc:language>en-US</dc:language>
  <cp:lastModifiedBy>John Watkins</cp:lastModifiedBy>
  <dcterms:modified xsi:type="dcterms:W3CDTF">2009-11-22T00:09:47Z</dcterms:modified>
  <cp:revision>118</cp:revision>
  <dc:subject/>
  <dc:title>Emcomm and Fldigi</dc:title>
</cp:coreProperties>
</file>